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753C6-7D67-407D-B962-029D674E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C0A32-229C-4042-BFB1-A315B936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39B8A-D9FD-441C-83F2-EF972B69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40794-7320-43EC-A386-E3AB78BA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360D8-B949-4045-AB45-A2BF0B4E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CE5BA-4306-481E-B740-0A570EFC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DA68C-1024-4ADE-9550-04F35715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23EBF-1A04-4AD2-8F3D-9A149BB0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FEE43-90C8-4B62-AFEB-EF86A1F3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F6B95-74A6-4779-B7BD-DB82F507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8BE1F-F11D-4CD0-A64B-6FE09A3D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1BE6C-5D4C-4386-85AB-F1D10BBF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D28B-9C89-49DB-B448-E7F99719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BD210-1B53-4F3E-811E-8FF9E07B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DC615-C1F6-4C4A-B518-F5F6F5F0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5F0A2-D4FD-40D0-B04B-F64DCC3E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B6FBB-C6B0-4DC4-B316-C1FDA761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39E41-1B32-4EE0-928E-6C509EE6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38921-E0AA-4AC2-B1D8-794E9414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F83F8-F595-446F-8B94-4058E87D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FEE28-6469-4298-B777-BAEA8B0A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45D8F-292D-45DE-93E8-351DFFF3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008B9-EC94-47F1-B4B3-C9A641E0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796B1-DD0C-426F-85FA-640FA3FD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A4F0D-89D4-4C2D-B0D4-6A0123E3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4B82E-6895-41AB-950A-5225A262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2B65B-D25F-48A1-B3C1-608BED8F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74E83-45FB-46CE-A0EE-451683C6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2D950-28E7-4600-B0C0-D09C4ACA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77F0F-40C1-4659-A5ED-10E3072E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CA7DD-4C76-443B-A432-719DB8E1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60D84-5A94-4BA6-AFF5-0B8B34FA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C94ED-02E7-40E1-84BE-004660BD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1B56C-0DBE-46EB-A6F0-72BDFDA9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2B5D-F9DA-4BEB-8275-5C45CAFC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A39CE-0B3A-4567-B74B-CBC91FBC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F4EB9-11E0-4BDB-A87B-25DACD18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8CF80-DD03-4432-9D42-282AE9E5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46499-D61F-4B4B-9FE6-6404E423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01E87-C3F4-4F98-BBA2-33F03994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D154D-8175-4B4A-BEC7-C5A11EBB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467B7-5C0D-4D40-A811-43E5AB34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A4AC97-8EC5-43EA-B3F2-83D937A7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7E857-77E1-4461-9AA4-4051E0EC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02519-1E97-4796-B32A-46A833AE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1644-D59D-4E15-A6E1-B14ECEBF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7DF05-4F12-442F-8454-F9975479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B186C-726B-496D-BC88-330DB2DF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6C8B5-DF1B-4AFC-9331-935B9B1F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E4980-B18A-4BE5-B82D-EBFE2029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01898-E249-4020-8C6E-7978B7C35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7A975-D4D1-4AE6-A723-B59B94EF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257538-5911-4450-B46C-CD719B81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92B4B2-12DD-44A5-9471-9EAADC8A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4525B-B2A6-424E-81EE-EA441BA0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E9556-04A3-48E5-BD7A-066EA3EC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C9BF-61AE-4200-9893-4B741E75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CD844-6097-4B29-9BD4-EF582BF7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5488F-87BD-4715-8F2C-FEDD0C30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B5A25-1E97-4C32-ACAF-670188B8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1636C-F8CD-4A8D-89C0-26A044DF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248C7-E831-4A02-A6A5-7E42EB4C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8C743-15A3-4A16-97C7-3940B256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EBC01-5B39-4943-A4E8-2CDFD2E4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09AF6-5849-4ED3-8CF6-4B4104F0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158BA-4143-4302-9372-17B4ACF4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20852F-3628-497D-BEE9-E8982034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19E9-980D-43F0-A051-F57171AF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03125-30AC-4D7A-B6A3-0ACA7037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DAD79D-3C94-4741-B616-7D2EA1BA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717ED-D8EC-47C8-92A6-D5EE30A9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9BE0BB-CA7A-4585-A2FD-B76BC1B6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5A9C72-455D-43E6-AB2E-3FD687F2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DE957-F8D4-4CF2-BF47-7DD33488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8856EB-3078-4929-8599-793C2BEA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42A87-E4F8-4208-A729-4BF0512E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023C5F-0557-49DC-B68F-F4FAEB952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6E313C-4A27-4FBA-A970-F2CA571D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0CE5-6E6F-4AB9-9ADA-F8634DBB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304482-E54D-4825-9C8C-E557F5E7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96FB96-EA3A-433D-A8C1-C4BFAB8F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773AF7-E885-4E5B-96C8-7CEDF4D3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37DD8E-7ACA-4B04-A901-B7D24F8C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4A572B-26B2-4F7D-8407-78E8503D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088BC1-1C9E-48BA-8F36-DDC1AAE3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4FAE80-5322-4D55-A9FF-8435249B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FA7840-1D35-46FB-9378-9E18F10D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01593C-92BA-4C30-B98D-37884938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338863-B1C2-4778-813C-5C80D951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87D3-488B-4E59-8134-7857C8D6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174B28-3D11-49AD-A91A-6F23138E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D53902-3790-4879-8D56-24CDBAAF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07355F-C6DD-488C-952D-7F6B7BDD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470E46-DCCF-4B4A-ADB3-8C246470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BBE710-45EA-480C-AFB6-2611AE8A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6004BC-204D-4A64-BC44-44BA25D9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525199-9402-437F-B208-4585EEB7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E5A52C-BE34-4F1C-B4EF-35EC6E6E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B73409-A1F6-4DB4-9262-AD6728E5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78440F-4356-4D02-80C6-1E2E9A3A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7568-5E97-4369-A991-EC31D0E6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BB59FB-500C-4A88-BF63-8D2C1732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F32868-BEE4-4C99-AA23-0B662512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875996-EEEE-4194-9B18-3BED154B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76E0F-D927-4960-80CA-6DD837F4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552A-D7E8-4A4F-8849-36B1F262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05BB-0C2A-4C15-B0E2-50B18423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8278A-F40B-4E80-B8DB-8DD80258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38E1-7A69-4766-8D00-8B9BC18C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77BB-7174-45AB-B568-147E1690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D1001-8094-4A19-B95C-F88A8541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D6524-79B1-4BE0-9AF6-3CC9DFC2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9B455-9E4A-4759-BF47-E7594EDA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9EFE8-A774-4FDF-9924-1C6BB94F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B4F88-A430-4A61-AE5A-9F25CD40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FB1D-81E3-4915-ADD9-D5B681FC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CAD4A-0D5B-4504-B564-D90384FC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2DF31-96F7-44C2-B855-419A4DAF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478C6-9C28-45F7-8864-7727A6E8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197F2-CD24-4D19-BD45-D51B383C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2640E-1C18-4791-AAB0-FCAEC6C8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5601B-AD3A-4C3B-82C4-6EAB1223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0E4E7-5488-4AC1-ACC2-10058EF6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37581-529F-41A2-9348-CF9CCCF8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346FA-92F0-452E-A75C-BAB03C13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77B70-AB21-4F8E-B5D1-EB412544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EF74A-F610-4BC9-A66D-0C557BE6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D338A-1EDE-4A36-A432-399BFAC6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7528B-E0D7-48A4-9D38-466FBC2E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DE576-37AB-4FE9-9E74-6CDD0D68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EA64D-EF79-427D-812E-B35EE90E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DE49B-C21D-45DA-8DA0-66AADACB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B7C54-0345-49B0-8950-CD58C7AE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01AC4-CB31-4182-8A5C-FA005512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809D4-95A5-4995-B139-83984E24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0512C-D9CA-4116-A006-903C6B89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FCDF4-D663-40B7-8FBF-895AFFF1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7CC1B-BBB2-4B0E-B8C1-7E381A31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D5AFE-1174-4128-8D87-D4A95170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BB72A-1824-441C-B30E-1097C024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B5A0A-F848-4936-98F6-8CB312CA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B39B0-CD82-4473-BE87-B918889D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5A040-B259-40A4-94C6-663D79C1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1DFC4-E0C5-4A8E-B3D2-3302FD57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86855-AC67-4779-9B9C-F3A7B707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CDCE3-1301-4536-9FC9-644E5F73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B9895-2CEF-4E0F-8419-B8C8FCB1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ABBB5-7A27-4D01-85ED-FD39A095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236C5-C3F4-4143-A41E-E78582CA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6C975-FC6D-452E-8166-DF2C9F47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0FC698-ED4C-47C6-8126-CDD79FAB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2EB42A-0163-4D38-9F35-07FDC089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FC5380-79F9-4D98-B394-17C954A5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A82D8F-9AEE-43E8-8487-6F7E5169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4EA5F1-5F1F-453C-95F2-8DCB4FD1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D93793-7882-49FE-869C-1E020B63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9D5652-C2FB-43DE-BB61-D079F099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559B3-589B-4E70-8464-0C00E877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97BE4-39EA-4ED8-B52E-511FF686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6CD26-2338-403C-973F-C5531BE4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CBDA56-4B6B-4498-84A4-0339CBE7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1AB5C6-270B-44EA-AB31-EA7D9E13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ED12A8-BCDA-4338-A196-B928FAF97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D29E2-C215-4AC5-9A42-86DC41FF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213C1-76B9-40F7-902D-485D0DE6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ECE4A-A4FF-4769-BCD5-E8834B2B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BB76A-7122-42B8-9110-CD05D0D5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CD3D0-CC93-47B9-9F55-25E29B03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7D308-D99B-49C4-8286-E6FB1348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E89DF-E0EA-4926-9F30-1C3F2C68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7B7C9-6132-48DE-BBE6-A373C8B3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66DE0-4F12-4774-A580-EDF323C6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3886C-DB07-4BDA-A500-2681BA2E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FDE2E-71AB-47C9-9284-2A498A08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FA9AE-BF68-4720-A652-4EBD17E7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A0BEB-E563-4641-A531-100302AF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AC7288-4640-49DD-8AE7-7806887C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5E86B4-5C03-4BF3-B0EB-994F7A6A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AC9230-93B9-4BF7-9B46-5249A139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8630FE-73E2-46EC-A54B-74D96DBB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6F545E-4B50-4DDE-BE60-7318C50E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99E01-B6B9-456F-8AF6-B56516AF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AE4416-E025-4CD1-AF3E-E54599F9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21130C-C2E6-4EE1-B609-0351682A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CAF6A9-3813-4613-87DE-46BAF658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8E7930-225D-4309-964F-6680E766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DE48A4-DF58-4D4D-89F8-80175803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36B576-8488-40DA-B414-DD8224DD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4DD554-A450-4DFB-9EA3-B5EFB87E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80279-DA30-449A-B2FC-0A07ACCD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5554A-6F80-43EF-BF55-6135420A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CF146-9BEF-477C-ACE2-5475BC1E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CFEA-FE43-4B90-884E-4EB63AAC7658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41A2-17CA-4D63-86BD-B99F1C9716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5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1BE1-0FEA-4C4E-9837-03F8F891260D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16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6DA8-5347-4859-9885-1F5DFAB9BDFF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7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EC00-FCFA-493B-B692-284DF826E62D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4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27BD-43F6-4FF0-B769-9EAEDEDA3EC7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2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BA56-33B2-4047-94A1-C5078A787DD6}" type="slidenum">
              <a:rPr b="0" lang="ar-S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8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D939-1EF9-4D28-B96E-B9F3EDEA096D}" type="slidenum">
              <a:rPr b="0" lang="ar-S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5035-8AD0-47B0-9762-63087D53BEF4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4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C029-66EA-40E4-B206-6048AEB66B11}" type="slidenum"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0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2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6439-90FC-463F-8EC1-839D0765114F}" type="slidenum"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5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79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1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8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7EA6-861B-4F7E-A1B8-32EA35531A3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3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4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4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4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CEF5-6F6E-445D-ABED-7E77F50BC39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1A96-6F41-4A25-97DA-D3FDFE103D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5C3F-443A-42CE-BEEA-292C4388FA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CBCA-BD0B-44E5-AFD7-8EF7DFEA32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7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/>
          </p:nvPr>
        </p:nvSpPr>
        <p:spPr>
          <a:xfrm>
            <a:off x="1403280" y="259920"/>
            <a:ext cx="6337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  <a:cs typeface="Monotype Koufi"/>
              </a:rPr>
              <a:t>كيف تكون مشرفاً تربوياً  مبدعا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Simple Outline Pat"/>
              </a:rPr>
              <a:t>محاضر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أعدّها ويقدمها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محمد بن حسن الشمران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مدير إدارة الإشراف التربو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الإدارة العامة للتعليم بالعاصمة المقدس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r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7777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cc00"/>
                </a:solidFill>
                <a:latin typeface="Arial Black"/>
                <a:cs typeface="Monotype Koufi"/>
              </a:rPr>
              <a:t>ثالثاً :  خصائص الإبداع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قدرة على اكتشاف علاقات  جديد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قدرة على استنطاق تلك العلاقات والإفصاح عنها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ربط بين العلاقات الجديدة وبين العلاقات القديمة التي سبق لغيره اكتشافها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توظيف العلاقات الجديدة لتحقيق أهداف معين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إحجام عن الأخذ عن الآخرين إلا بالقدر الذي يخدم ويحقق الإبداعية لديه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قدرة على ملاحظة التناقضات والنواقص في البيئ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2698560" y="333360"/>
            <a:ext cx="388908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  <a:cs typeface="Monotype Koufi"/>
              </a:rPr>
              <a:t>صفات المبد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ذهن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تلك قدرة عالية على التفكير الإبداعي ويحب التجدي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تلك ذاكرة قوية في بعض الأمور ، وقادر على الإلمام بالتفاصي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حتاج إلى فترات تفكير طويل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فضل التعامل مع الأشياء المعقدة والمتنوعة والتي تحتمل أكثر من تفسي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عتمد على الملاحظة الشديدة لكل المسارات والأساليب للموضوع الذي يهم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ديه قدرة عالية على تلخيص الأشياء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ركز على النقد البناء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/>
          </p:nvPr>
        </p:nvSpPr>
        <p:spPr>
          <a:xfrm>
            <a:off x="826920" y="622080"/>
            <a:ext cx="69948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هتم بالأشياء التي تحتمل الشك ولا يمكن التنبؤ ب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دائم التساؤ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متعدد الميول والاهتمام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قترح أفكاراً قد يعتبرها الآخرون غير معقول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تمتع بالاستقلالية في الرأي والتفكي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سأل كثير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فكر بشكل أفضل في فترات الهدوء والفراغ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بطيء في تحليل المعلومات سريع في الوصول للح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نفس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قادر على التكيف بسرعة مع المتغير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حب التميز بعمله ولا يحب التقلي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متفائل  بطبيعت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عتمد على أحاسيسه ومشاعره كثير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ا ينهزم ولا يهرب من المشكلة بسرع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هتم ويتحمس لأفكاره ومشروعاته الشخصية ويتبناها ويثبت وراءها حتى ينفذ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الثقة بالنفس ، والشعور بالقدرة على تنفيذ ما يريد 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ا يستسلم بسهول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لك قدرة كبيرة على تحمل المسؤولية في الأمور التي يحب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بادر بالعمل ومستعد لبذل الجهد فيما يحب ، وذو طموح عالٍ جد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794088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ea typeface="Akhbar MT"/>
              </a:rPr>
              <a:t>3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عمل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ا يحبذ القيام بالأعمال الروتيني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فضل القيام بالأعمال التي تنطوي على التحد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يل إلى المغامرة ويحب التجريب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قادر على التعامل مع المواقف الغامضة وحل المشكلات الصعب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ثابر في عمله ، و يتابع أفكاره بجدية بالرغم من معارضة الآخرين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سعى دائماً لتحسين عمل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تساءل عن تطبيقات النظريات والمبادئ القائم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إنسان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حساس ولديه روح الدعابة والفكاهة في ضوء ما تمليه الأخلاق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مهذب ولكنه صريح ومستقل ولا يحبذ السلطة أو التسلط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قادر على مقاومة ضغوط الجماع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عمل حتى لو قاومه الآخرون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حب الثناء والمدح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شجاع ومقدام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الانفتاح على التجارب الإنسانية والمحيط الخارج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شعر بقدر كبير من الغبطة والسرور عندما يمارس العمل الذي يبدع في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صبو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9900"/>
                </a:solidFill>
                <a:latin typeface="Arial"/>
                <a:cs typeface="Monotype Koufi"/>
              </a:rPr>
              <a:t>شروط الإبداع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6868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أصالة : أي قدرة الفرد على توليد أفكار جديدة 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طلاقة : أي قدرة الفرد على إنتاج كمية كبيرة من الأفكار 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ea typeface="Akhba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ea typeface="Akhba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ea typeface="Akhba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في وقت محدد ( بنك القدرة الإبداعية )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مرونة : أي تنوع الأفكار ( تتعلق بالكيف وليس بالكم )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حساسية : القدرة على تحسس المشكلات وإدراك طبيعتها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استنباطية : القدرة على الربط بين الأفكار في الوقت ذاته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e941c"/>
                </a:solidFill>
                <a:latin typeface="Arial"/>
                <a:cs typeface="Monotype Koufi"/>
              </a:rPr>
              <a:t>تجاوز المعوقات ومواجهة التحديات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2104560" y="1676160"/>
            <a:ext cx="59151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احذر من الإيحاءات السلبي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طاقتي محدود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رأيي غير مسمو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لا أستطيع مقاومة التيا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من النوع الذي يطبق الأوام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خاف الإحراج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7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/>
          </p:nvPr>
        </p:nvSpPr>
        <p:spPr>
          <a:xfrm>
            <a:off x="2123640" y="836640"/>
            <a:ext cx="5410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عالج نفسك بنفسك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ما هي طاقتي أو ميولي أو هوايت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كيف أستمتع بوقت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توجه إلى إنسان تثق به للاستشار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ما هي إيجابياتي وسلبيات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شجع نفسك وكافئها على ما أنجزت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لا تسخر من نفسك ، ولا تقلل من عملك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لا تحكم بسرعة على الأمو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9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28352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تعلم أساليب قتل الأفكار ... كي تتجنبها ( كن إيجابياً ومتفائلاً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عود نفسك أن تساهم بفكرة ولو كانت صغيرة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5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درب نفسك على تحريك خيالك باستمرار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6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لا تحرم نفسك لذة التفكير واستخدام طاقة عقلك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7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واصل التحدي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00"/>
                </a:solidFill>
                <a:latin typeface="Arial"/>
                <a:cs typeface="Monotype Koufi"/>
              </a:rPr>
              <a:t>أولاً مفهوم الإبدا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e3e3ff"/>
                </a:solidFill>
                <a:latin typeface="Arial"/>
                <a:cs typeface="Akhbar MT"/>
              </a:rPr>
              <a:t>قال الله تعالى :</a:t>
            </a:r>
            <a:br>
              <a:rPr sz="3200"/>
            </a:br>
            <a:r>
              <a:rPr b="1" lang="ar-SA" sz="3600" spc="-1" strike="noStrike">
                <a:solidFill>
                  <a:srgbClr val="e3e3ff"/>
                </a:solidFill>
                <a:latin typeface="Arial"/>
                <a:ea typeface="Akhbar MT"/>
              </a:rPr>
              <a:t>- (بديع السموات والأرض )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	</a:t>
            </a:r>
            <a:br>
              <a:rPr sz="3200"/>
            </a:b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	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cs typeface="Akhbar MT"/>
              </a:rPr>
              <a:t>أي موجدهم لا على مثال سبق</a:t>
            </a:r>
            <a:br>
              <a:rPr sz="3200"/>
            </a:br>
            <a:br>
              <a:rPr sz="3200"/>
            </a:br>
            <a:r>
              <a:rPr b="1" lang="ar-SA" sz="3600" spc="-1" strike="noStrike">
                <a:solidFill>
                  <a:srgbClr val="e3e3ff"/>
                </a:solidFill>
                <a:latin typeface="Arial"/>
                <a:ea typeface="Akhbar MT"/>
              </a:rPr>
              <a:t>- ( قل ما كنت بدعا من الرسل وما أدري ما يفعل بي ولا بكم )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  <a:ea typeface="Akhbar MT"/>
              </a:rPr>
              <a:t> 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 </a:t>
            </a:r>
            <a:br>
              <a:rPr sz="3200"/>
            </a:b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	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cs typeface="Akhbar MT"/>
              </a:rPr>
              <a:t>أي ما كنت أول مرسل بل سبق قبلي كثيرون منه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ee941c"/>
                </a:solidFill>
                <a:latin typeface="Arial"/>
                <a:cs typeface="Monotype Koufi"/>
              </a:rPr>
              <a:t>الإشراف الإبداعي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1680" y="1703160"/>
            <a:ext cx="85406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هو ذلك النوع الذي لا يقتصر على مجرد نتاج الأحسن ، وتقديم أعلى نوع من النشاط  الجمعي ، وإنما هو حفز الهمم ، وتحريك القدرات لدى المشرف لتخريج أحسن ما لديه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أي أن هذا النوع يعمل على استثمار قدرات المعلمين وإمكاناتهم العلمية والمهنية وإلى أقصى حد ممكن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ee941c"/>
                </a:solidFill>
                <a:latin typeface="Arial"/>
                <a:cs typeface="Monotype Koufi"/>
              </a:rPr>
              <a:t>صفات المشرف التربوي المبدع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مرونة التفكي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صبر واللباق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ثقة بقدراته المهن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رغبة في الاستفادة من تجارب وخبرات الآخري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إيمان بقدرات الآخري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رؤية الواضحة للأهداف التربوية ، والاستعداد للسير إلى أفضل السبل الموصلة لها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ffff"/>
                </a:solidFill>
                <a:latin typeface="Tahoma"/>
                <a:cs typeface="PT Bold Dusky"/>
              </a:rPr>
              <a:t>الإبداع :  فطري    ؟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ffff"/>
                </a:solidFill>
                <a:latin typeface="Tahoma"/>
                <a:cs typeface="PT Bold Dusky"/>
              </a:rPr>
              <a:t>الإبداع : مكتسب  ؟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9900"/>
                </a:solidFill>
                <a:latin typeface="Garamond"/>
                <a:cs typeface="Monotype Koufi"/>
              </a:rPr>
              <a:t>شكراً لإتاحة الفرصة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9900"/>
                </a:solidFill>
                <a:latin typeface="Garamond"/>
                <a:cs typeface="Monotype Koufi"/>
              </a:rPr>
              <a:t>و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9900"/>
                </a:solidFill>
                <a:latin typeface="Garamond"/>
                <a:cs typeface="Monotype Koufi"/>
              </a:rPr>
              <a:t>لحسن الإنصات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/>
          </p:nvPr>
        </p:nvSpPr>
        <p:spPr>
          <a:xfrm>
            <a:off x="250560" y="2420640"/>
            <a:ext cx="67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 Black"/>
                <a:ea typeface="Akhbar MT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مفهوم الإبداع 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عملية الإتيان بجديد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قدرة على حل المشكلات بأساليب جديدة تعجب السامع والمشاهد 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 تنظيم الأفكار وظهورها في بناء جديد انطلاقاً من عناصر موجود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 القدرة على تكوين تركيبات أو تنظيمات جديدة</a:t>
            </a:r>
            <a:r>
              <a:rPr b="0" lang="ar-SA" sz="3200" spc="-1" strike="noStrike">
                <a:solidFill>
                  <a:srgbClr val="ffffff"/>
                </a:solidFill>
                <a:latin typeface="Arial Black"/>
                <a:ea typeface="Akhbar MT"/>
              </a:rPr>
              <a:t>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9" name=""/>
          <p:cNvSpPr/>
          <p:nvPr/>
        </p:nvSpPr>
        <p:spPr>
          <a:xfrm>
            <a:off x="324000" y="308772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24000" y="347760"/>
            <a:ext cx="68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Akhbar MT"/>
              </a:rPr>
              <a:t>في اللغ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أبدعت الشيء 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اخترعته على غير مثال ساب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Akhbar MT"/>
              </a:rPr>
              <a:t>والمبدع 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هو المنشئ أو المحدث لأمر لم يسبقه إليه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  أحد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e103"/>
                </a:solidFill>
                <a:latin typeface="Arial Black"/>
                <a:cs typeface="PT Bold Stars"/>
              </a:rPr>
              <a:t>مصطلحات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97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خيال : هو التصور أو التوهم لشيء غير موجود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  <a:ea typeface="Akhbar MT"/>
              </a:rPr>
              <a:t>(أول خطوات الإبداع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ابتكار : هو الإبداع 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اختراع : الإبداع العلمي ( طائرة ، كمبيوتر ، صاروخ ، ....)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اكتشاف : كشف شيء موجود في الطبيعة وكيفية استعماله وتصنيعه </a:t>
            </a:r>
            <a:r>
              <a:rPr b="1" lang="en-US" sz="3400" spc="-1" strike="noStrike">
                <a:solidFill>
                  <a:srgbClr val="ffcc00"/>
                </a:solidFill>
                <a:latin typeface="Arial Black"/>
                <a:ea typeface="Akhbar MT"/>
              </a:rPr>
              <a:t>	</a:t>
            </a:r>
            <a:r>
              <a:rPr b="1" lang="en-US" sz="3400" spc="-1" strike="noStrike">
                <a:solidFill>
                  <a:srgbClr val="ffcc00"/>
                </a:solidFill>
                <a:latin typeface="Arial Black"/>
                <a:ea typeface="Akhbar MT"/>
              </a:rPr>
              <a:t>	</a:t>
            </a:r>
            <a:r>
              <a:rPr b="1" lang="en-US" sz="3400" spc="-1" strike="noStrike">
                <a:solidFill>
                  <a:srgbClr val="ffcc00"/>
                </a:solidFill>
                <a:latin typeface="Arial Black"/>
                <a:ea typeface="Akhbar MT"/>
              </a:rPr>
              <a:t>( المغناطيس، الكهرباء ، .....)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ذكاء : سرعة الفهم والاستنتاج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موهبة : قدرة خاصة تجعل المرء يتقن في مجال الموهبة 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موهوب ، والعبقري ، والمتفوق عقلياً : صفات لمن نسب ذكائهم عالية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6696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hi-IN" sz="4800" spc="-1" strike="noStrike">
                <a:solidFill>
                  <a:srgbClr val="ffcc00"/>
                </a:solidFill>
                <a:latin typeface="Arial Black"/>
                <a:cs typeface="Monotype Koufi"/>
              </a:rPr>
              <a:t>ثانياً : دوافع الإبداع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4400"/>
            </a:br>
            <a:br>
              <a:rPr sz="3600"/>
            </a:br>
            <a:r>
              <a:rPr b="1" lang="hi-IN" sz="4400" spc="-1" strike="noStrike">
                <a:solidFill>
                  <a:srgbClr val="ffe103"/>
                </a:solidFill>
                <a:latin typeface="Arial Black"/>
                <a:cs typeface="Akhbar MT"/>
              </a:rPr>
              <a:t>يمكن تصنيف هذه الدوافع إلى ما يلي :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 دوافع ذاتية داخلية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دوافع بيئية خارجية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دوافع مادية ومعنوية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دوافع خاصة بالعمل الإبداعية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4" name=""/>
          <p:cNvSpPr/>
          <p:nvPr/>
        </p:nvSpPr>
        <p:spPr>
          <a:xfrm>
            <a:off x="324000" y="3213000"/>
            <a:ext cx="842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250560" y="2349360"/>
            <a:ext cx="78469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1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- الدوافع الذاتية الداخلية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حماس في تحقيق الأهداف الشخصية ( يكون مفيداً للمجتمع )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رغبة في تقديم مساهمة مبتكرة وقيمة وصياغة جديدة مبتكرة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رغبة في معالجة الأشياء الغامضة والمعقد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رغبة في تجريب أكثر في مجال العمل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حصول على رضا النفس وتحقيق الذات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611280" y="2122560"/>
            <a:ext cx="726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2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-  الدوافع البيئية الخارجية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اجة إليه في مجالات العمل المختلف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يوية والنمو يحتاجان إلى ومضة الإبداع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تصدي للمشكلات العامة والخاصة يتطلب الإبداع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إننا في عالم سريع التغير ويحتاج إلى صنع الأحداث بطريقة إبداعي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إن التقدم والازدهار مرتبطان بقدراتنا الإبداعي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1258920" y="1341360"/>
            <a:ext cx="59738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- الدوافع المادية والمعنوية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مكافآت مالي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تقدير وثناء وسمعة وشهر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مرتبة علمية مرموق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درجة وظيفية متقدم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قبول الناس ورضاهم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خدمة الأمة أو الوطن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رضا الله سبحانه وتعالى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  <a:ea typeface="Akhbar MT"/>
              </a:rPr>
              <a:t> 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/>
          </p:nvPr>
        </p:nvSpPr>
        <p:spPr>
          <a:xfrm>
            <a:off x="539640" y="2773080"/>
            <a:ext cx="698040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4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 - الدوافع الخاصة بالعمل الإبداعي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623880" indent="-2397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رغبة الشديدة في إيجاد الفكرة والحصول عليها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6:55:50Z</dcterms:created>
  <dc:creator>Compaq User</dc:creator>
  <dc:description/>
  <dc:language>en-US</dc:language>
  <cp:lastModifiedBy>O</cp:lastModifiedBy>
  <dcterms:modified xsi:type="dcterms:W3CDTF">2003-04-06T21:42:46Z</dcterms:modified>
  <cp:revision>24</cp:revision>
  <dc:subject/>
  <dc:title>الشريحة 1</dc:title>
</cp:coreProperties>
</file>